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7.gif" ContentType="image/gif"/>
  <Override PartName="/ppt/media/camera.wav" ContentType="audio/x-wav"/>
  <Override PartName="/ppt/media/image6.png" ContentType="image/png"/>
  <Override PartName="/ppt/media/projctor.wav" ContentType="audio/x-wav"/>
  <Override PartName="/ppt/media/image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type.wav" ContentType="audio/x-wav"/>
  <Override PartName="/ppt/media/image15.jpeg" ContentType="image/jpeg"/>
  <Override PartName="/ppt/media/image23.png" ContentType="image/png"/>
  <Override PartName="/ppt/media/image20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chimes.wav" ContentType="audio/x-wav"/>
  <Override PartName="/ppt/media/image13.png" ContentType="image/png"/>
  <Override PartName="/ppt/media/image24.jpeg" ContentType="image/jpeg"/>
  <Override PartName="/ppt/media/image12.gif" ContentType="image/gif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D6E-DAA6-4EA3-8FFF-7448F63A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2343-5736-4A43-9296-9B7FA7CE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843-3916-43F5-9365-C619926C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D15-44AB-42B7-AE10-BD761F92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B7B-B3A6-44BD-BE3E-A0F76585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29C-468E-468F-8A98-4DBEEB5B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445-79D9-4ED0-9F31-D3FB35D0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D66-97A5-452B-A2FC-7E4D0C8C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C73-5B72-4BC4-978D-7E2BD33A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0F1-F795-4F57-B763-DC3E8FFF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48D-454A-499E-915B-10954352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9D3-2771-4039-8C37-ADF7D8A8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EAFA-A8D7-4838-B29D-1723DCB27B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4.jpeg"/><Relationship Id="rId3" Type="http://schemas.openxmlformats.org/officeDocument/2006/relationships/image" Target="../media/image2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7.xml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9477" t="0" r="13081" b="50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6000"/>
            <a:ext cx="8229600" cy="375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ff33"/>
                </a:solidFill>
                <a:latin typeface="Arial"/>
                <a:ea typeface="华文行楷"/>
              </a:rPr>
              <a:t>做诚信的人</a:t>
            </a:r>
            <a:br>
              <a:rPr sz="9600"/>
            </a:br>
            <a:br>
              <a:rPr sz="48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nw_bt"/>
          <p:cNvPicPr/>
          <p:nvPr/>
        </p:nvPicPr>
        <p:blipFill>
          <a:blip r:embed="rId2"/>
          <a:stretch/>
        </p:blipFill>
        <p:spPr>
          <a:xfrm>
            <a:off x="971640" y="6021360"/>
            <a:ext cx="7086600" cy="120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nw_tp"/>
          <p:cNvPicPr/>
          <p:nvPr/>
        </p:nvPicPr>
        <p:blipFill>
          <a:blip r:embed="rId3"/>
          <a:stretch/>
        </p:blipFill>
        <p:spPr>
          <a:xfrm>
            <a:off x="1042920" y="404640"/>
            <a:ext cx="7162920" cy="640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06"/>
          <p:cNvPicPr/>
          <p:nvPr/>
        </p:nvPicPr>
        <p:blipFill>
          <a:blip r:embed="rId4"/>
          <a:stretch/>
        </p:blipFill>
        <p:spPr>
          <a:xfrm>
            <a:off x="755640" y="1268280"/>
            <a:ext cx="1295280" cy="1079640"/>
          </a:xfrm>
          <a:prstGeom prst="rect">
            <a:avLst/>
          </a:prstGeom>
          <a:ln w="0">
            <a:noFill/>
          </a:ln>
        </p:spPr>
      </p:pic>
      <p:pic>
        <p:nvPicPr>
          <p:cNvPr id="46" name="地球之歌——轻音乐.mp3" descr=""/>
          <p:cNvPicPr/>
          <p:nvPr/>
        </p:nvPicPr>
        <p:blipFill>
          <a:blip r:embed="rId5"/>
          <a:stretch/>
        </p:blipFill>
        <p:spPr>
          <a:xfrm>
            <a:off x="250920" y="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star8"/>
          <p:cNvPicPr/>
          <p:nvPr/>
        </p:nvPicPr>
        <p:blipFill>
          <a:blip r:embed="rId6"/>
          <a:stretch/>
        </p:blipFill>
        <p:spPr>
          <a:xfrm>
            <a:off x="2771640" y="3284640"/>
            <a:ext cx="200160" cy="19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tar8"/>
          <p:cNvPicPr/>
          <p:nvPr/>
        </p:nvPicPr>
        <p:blipFill>
          <a:blip r:embed="rId7"/>
          <a:stretch/>
        </p:blipFill>
        <p:spPr>
          <a:xfrm>
            <a:off x="1692360" y="206064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star8"/>
          <p:cNvPicPr/>
          <p:nvPr/>
        </p:nvPicPr>
        <p:blipFill>
          <a:blip r:embed="rId8"/>
          <a:stretch/>
        </p:blipFill>
        <p:spPr>
          <a:xfrm>
            <a:off x="1835280" y="292428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star8"/>
          <p:cNvPicPr/>
          <p:nvPr/>
        </p:nvPicPr>
        <p:blipFill>
          <a:blip r:embed="rId9"/>
          <a:stretch/>
        </p:blipFill>
        <p:spPr>
          <a:xfrm>
            <a:off x="4427640" y="3573360"/>
            <a:ext cx="199800" cy="20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star8"/>
          <p:cNvPicPr/>
          <p:nvPr/>
        </p:nvPicPr>
        <p:blipFill>
          <a:blip r:embed="rId10"/>
          <a:stretch/>
        </p:blipFill>
        <p:spPr>
          <a:xfrm>
            <a:off x="6588000" y="3213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star8"/>
          <p:cNvPicPr/>
          <p:nvPr/>
        </p:nvPicPr>
        <p:blipFill>
          <a:blip r:embed="rId11"/>
          <a:stretch/>
        </p:blipFill>
        <p:spPr>
          <a:xfrm>
            <a:off x="5364000" y="321300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star8"/>
          <p:cNvPicPr/>
          <p:nvPr/>
        </p:nvPicPr>
        <p:blipFill>
          <a:blip r:embed="rId12"/>
          <a:stretch/>
        </p:blipFill>
        <p:spPr>
          <a:xfrm>
            <a:off x="4067280" y="3068640"/>
            <a:ext cx="199800" cy="200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ack (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3348000" y="836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76720" y="189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小故事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2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132000" y="3860640"/>
            <a:ext cx="5832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）请你说说记者这样做的理由？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（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）如果你是记者你会怎么做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348000" y="981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记者到一家企业采访，经理盛情款待，要他为企业写篇宣传文章，并答应付一笔丰厚的报酬。鉴于该企业的产品存在质量问题，记者恪守诚信原则，断然拒绝了这一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pic02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295280" y="1371600"/>
            <a:ext cx="6629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诚信守则二：</a:t>
            </a:r>
            <a:br>
              <a:rPr sz="48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808080"/>
                </a:solidFill>
                <a:latin typeface="Arial"/>
              </a:rPr>
              <a:t>在涉及利益冲突时，要站在多数人利益一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62120" y="144792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ph_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back (2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348000" y="836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276720" y="189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小故事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3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987640" y="4076640"/>
            <a:ext cx="56167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分析小松面临着哪两方面的冲突。         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小松的做法“失”去了什么？           “得”到了什么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348000" y="981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松是位住校生，近来迷上网络游戏，经常逃到附近的黑网吧上网，考试时靠作弊蒙混过关，每次均未被发现。班会上，老师要求每个同学找出自己存在的主要问题，以便更快地进步。经过激烈的思想斗争，小松说出了自己的所作所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ic02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1219320" y="1981080"/>
            <a:ext cx="66294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诚信守则三</a:t>
            </a:r>
            <a:br>
              <a:rPr sz="48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幼圆"/>
              </a:rPr>
              <a:t>        </a:t>
            </a:r>
            <a:r>
              <a:rPr b="1" lang="zh-CN" sz="4400" spc="-1" strike="noStrike">
                <a:solidFill>
                  <a:srgbClr val="808080"/>
                </a:solidFill>
                <a:latin typeface="Times New Roman"/>
              </a:rPr>
              <a:t>在眼前利益与长远利益冲突时，要站在长远利益一边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back (2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216240" y="836640"/>
            <a:ext cx="59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铁柱到表哥家做客，偶然发现表哥躲在屋后的水塘边吸食毒品。表哥求他不要告诉别人，家长也告诫他不要伤害表兄弟之间的感情。但铁柱心里明白，吸毒是一种犯罪，如果隐瞒不报，无疑是包庇罪人，再说，从根本上也害了表哥。于是，他向当地公安机关报了案。表哥受到法律制裁。但亲戚朋友都指责铁柱落井下石，铁柱很苦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132000" y="189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小故事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4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76720" y="189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情与法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716360" y="4221000"/>
            <a:ext cx="4248360" cy="945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黑体"/>
              </a:rPr>
              <a:t>在遇到情与法的冲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黑体"/>
              </a:rPr>
              <a:t>中，我们应当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ic02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990720" y="1371600"/>
            <a:ext cx="7086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诚信守则四</a:t>
            </a:r>
            <a:br>
              <a:rPr sz="48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</a:t>
            </a:r>
            <a:r>
              <a:rPr b="1" lang="zh-CN" sz="4400" spc="-1" strike="noStrike">
                <a:solidFill>
                  <a:srgbClr val="808080"/>
                </a:solidFill>
                <a:latin typeface="Times New Roman"/>
              </a:rPr>
              <a:t>在情与法冲突中，要站在法律一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324000" y="18900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诚信守则一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坚持实事求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268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诚信守则二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在涉及利益冲突时，要站在多数人利益一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50920" y="2924280"/>
            <a:ext cx="871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诚信守则三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在眼前利益与长远利益冲突时，要站在长远利益一边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79280" y="4581360"/>
            <a:ext cx="914400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诚信守则四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在情与法冲突中，要站在法律一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692360" y="1628640"/>
            <a:ext cx="5184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0" y="1268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小明的爸爸开了一家小酒店，由于货真价实，服务周到，生意挺红火。有一天，小明放学后去酒店，发现爸爸正在用水和酒精兑白酒，小明劝爸爸不要这么做。爸爸说：“我不这样做，你的学习、生活费用哪里来？以前虽然生意红火，但哪比得上这样钱来得快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Arial"/>
              </a:rPr>
              <a:t>!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小明见爸爸不听，赶紧把这是事告诉了妈妈，妈妈说：“难怪最近有顾客说咱们店的酒味越来越少了，这样下去，会把咱们酒店毁了呀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924360" y="33336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《</a:t>
            </a: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开店</a:t>
            </a:r>
            <a:r>
              <a:rPr b="1" lang="en-US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5"/>
          <p:cNvSpPr txBox="1"/>
          <p:nvPr/>
        </p:nvSpPr>
        <p:spPr>
          <a:xfrm>
            <a:off x="179280" y="-239760"/>
            <a:ext cx="3390840" cy="18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畅所欲言</a:t>
            </a:r>
            <a:endParaRPr b="1" lang="en-US" sz="66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于是，小明和妈妈想了个办法，偷偷买了一批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正宗的白酒，把爸爸自制的酒换掉，而且，两人想方设法不让他有机会制假酒。小店生意越来越好，一天晚上，小明爸爸说：“咱们酒店能有今天，这可都是我的功劳。”小明和妈妈趁机把真相告诉了他，小明爸爸这才恍然大悟，承认了自己的错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0" y="429264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小明爸的做法会得到什么？失去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事例中涉及到了哪些方面的利益冲突？怎样看待小明和妈妈的做法？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ack (22)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971800" y="9144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小锋是老师最信任的一班之长。一天老师找小锋了解小涛的情况。因为小涛最近行为反常，上课神情恍惚，成绩直线下降。小涛是小锋的好朋友，小锋知道小涛最近在网上交了朋友，每天都和网友聊天，打网络游戏，小锋向小涛保证过不把此事告诉别人。面对老师的询问，小锋很为难。作为班长，他有责任向老师如实反映情况；作为同窗好友，他又有义务保护同学的隐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76720" y="33336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小故事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5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257800" y="4046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与不说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图片4"/>
          <p:cNvPicPr/>
          <p:nvPr/>
        </p:nvPicPr>
        <p:blipFill>
          <a:blip r:embed="rId1"/>
          <a:stretch/>
        </p:blipFill>
        <p:spPr>
          <a:xfrm>
            <a:off x="0" y="-168120"/>
            <a:ext cx="9144000" cy="70261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6000" y="1890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幼圆"/>
              </a:rPr>
              <a:t>捧着空花盆的孩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81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位国王很老了，可是没有孩子，谁来继承王位呢？一天，国王发给全国的孩子每人一包花种子，并且说：“谁种出花来谁就当太子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个叫雄日的男孩，也很用心地培育花种，可是花种就是不发芽。这天国王要看花了，孩子们都捧着盛开的花，国王脸上没有一丝笑容。突然，他看见雄日捧着空花盆流泪，就赶紧走过去，雄日把自己种花但始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WordArt 5" descr=""/>
          <p:cNvPicPr/>
          <p:nvPr/>
        </p:nvPicPr>
        <p:blipFill>
          <a:blip r:embed="rId2"/>
          <a:stretch/>
        </p:blipFill>
        <p:spPr>
          <a:xfrm>
            <a:off x="0" y="-96840"/>
            <a:ext cx="3481560" cy="1882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back (22)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971800" y="914400"/>
            <a:ext cx="59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平平与小唐是无话不谈的好朋友。一天，小唐和同学在放学回家的路上，一个陌生的年轻人，走过来向他们打听平平家的地址和电话号码。其他同学都摇头说不知道，并都指向小唐，说她是平平的好朋友，应该知道。平平的确知道。但此时此刻，她该怎么做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276720" y="33336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小故事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6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257800" y="4046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与不说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Q_00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50920" y="549360"/>
            <a:ext cx="2057400" cy="57610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3"/>
          <p:cNvSpPr/>
          <p:nvPr/>
        </p:nvSpPr>
        <p:spPr>
          <a:xfrm>
            <a:off x="5257800" y="380880"/>
            <a:ext cx="2879640" cy="1150920"/>
          </a:xfrm>
          <a:prstGeom prst="cloudCallout">
            <a:avLst>
              <a:gd name="adj1" fmla="val -74365"/>
              <a:gd name="adj2" fmla="val 105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想一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514600" y="1676520"/>
            <a:ext cx="6477120" cy="2311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结合上述案例回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你认为案例中的主人公是如实回答还是不说真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两个故事都涉及到保护隐私与诚信的关系，二者冲突时应该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1471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二）诚信的智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24000" y="134136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诚实与隐私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79280" y="2031840"/>
            <a:ext cx="8569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诚待人，以信交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是人际交往的基本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准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我们应当恪守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诚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品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尊重隐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又是待人坦诚的前提，是维持良好、有效沟通的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人诚实与尊重他人隐私，是相互关联且常常发生冲突的两种道德准则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二者发生冲突时，要结合具体情境，坚持原则，权衡利弊，按照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实际情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妥善处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back (22)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971800" y="9144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492360" y="2930760"/>
            <a:ext cx="5257800" cy="2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当一位身患绝症的病人，被医生判了死刑时，他所有的亲人，都不会直接地告诉他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生命已无法挽救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最多还能在这个世界上活多久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之类的话。虽然这些都是实话，但是谁会那样残忍地如同法官宣判犯人死刑一样，向已经在病痛中的亲人以实情相告呢。这时，大家就会形成一个统一的战线，闭口不谈实情，而以善意的谎言来使病人对治疗充满希望，让病人在一个平和的心态中度过那残年余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316760" y="508464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请问：这些说谎的人是不讲诚信的人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back (22)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971800" y="9144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276720" y="2909520"/>
            <a:ext cx="5616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当一个不谙世事的孩子，突然遭遇不幸，失去了自己的亲人，该怎样向他说明自己的亲人到哪里去了呢。我们觉得最好的办法还是：暂时不要告诉他真实情况，只是说到很远的地方出差去了，或者是在国外学习工作之类的。待孩子懂事了，有了一定的承受能力的时候，再以实情相告，孩子也会理解亲人的做法，不会因为没有早知真情而生气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请问：孩子的亲人是不讲诚信的人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ack (22)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971800" y="914400"/>
            <a:ext cx="59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059280" y="2689200"/>
            <a:ext cx="5760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当一个正在外地执行任务的军人的母亲病入膏肓，奄奄一息的时候，多么希望能见上儿子最后一面啊，但是，儿子是不能回来的，不能为老母亲尽一点孝心，照顾一下曾经为儿子操碎了心的母亲，他非常歉疚，也很是惦念。而老母亲非常理解儿子，告诉身边的亲人，自己走了以后不要告诉远方的儿子，不能让他分心，要说病情已经稳定，让他安心为国尽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请问：儿子的母亲是不讲诚信的人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诚实与说谎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642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诚实与说谎是水火不相容的，做诚实的人就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不应该撒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特定的交往情境中，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善意的谎言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是出于个人的“私利”，是维护对方利益的需要，从根本上说，善意的谎言并不是违背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诚实的道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24000" y="4869000"/>
            <a:ext cx="808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：生活中什么情境下要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善意的谎言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．诚信的核心是</a:t>
            </a:r>
            <a:r>
              <a:rPr b="1" lang="zh-CN" sz="4800" spc="-1" strike="noStrike">
                <a:solidFill>
                  <a:srgbClr val="990033"/>
                </a:solidFill>
                <a:latin typeface="Arial"/>
              </a:rPr>
              <a:t>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小结：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尽管诚信问题上有各种复杂的情况，但只要我们正确理解诚信原则，与人为善，出以公心，永不自欺，我们就能拥有诚信的智慧，做一个诚信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5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abg007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WordArt 3"/>
          <p:cNvSpPr txBox="1"/>
          <p:nvPr/>
        </p:nvSpPr>
        <p:spPr>
          <a:xfrm rot="5400000">
            <a:off x="-1233000" y="2756520"/>
            <a:ext cx="4443480" cy="1181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26920" y="1125360"/>
            <a:ext cx="3048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宋体"/>
              </a:rPr>
              <a:t>诚信守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140360" y="1628640"/>
            <a:ext cx="63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站在多数人利益一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211640" y="227664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站在长远利益一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4211640" y="299736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站在法律一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0" y="465300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宋体"/>
              </a:rPr>
              <a:t>诚信的智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4798440" y="3933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诚信与隐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4798440" y="4724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诚信与谎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3708360" y="1197000"/>
            <a:ext cx="287280" cy="244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8840 h 2448000"/>
              <a:gd name="textAreaBottom" fmla="*/ 236916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4"/>
                  <a:pt x="10800" y="2227"/>
                </a:cubicBezTo>
                <a:lnTo>
                  <a:pt x="10800" y="8573"/>
                </a:lnTo>
                <a:cubicBezTo>
                  <a:pt x="10800" y="9687"/>
                  <a:pt x="5400" y="10800"/>
                  <a:pt x="0" y="10800"/>
                </a:cubicBezTo>
                <a:cubicBezTo>
                  <a:pt x="5400" y="10800"/>
                  <a:pt x="10800" y="11914"/>
                  <a:pt x="10800" y="13027"/>
                </a:cubicBezTo>
                <a:lnTo>
                  <a:pt x="10800" y="19373"/>
                </a:lnTo>
                <a:cubicBezTo>
                  <a:pt x="10800" y="2048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108000" y="0"/>
            <a:ext cx="319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5609520" y="981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坚持实事求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3780000" y="3933720"/>
            <a:ext cx="287280" cy="244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8840 h 2448000"/>
              <a:gd name="textAreaBottom" fmla="*/ 236916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4"/>
                  <a:pt x="10800" y="2227"/>
                </a:cubicBezTo>
                <a:lnTo>
                  <a:pt x="10800" y="8573"/>
                </a:lnTo>
                <a:cubicBezTo>
                  <a:pt x="10800" y="9687"/>
                  <a:pt x="5400" y="10800"/>
                  <a:pt x="0" y="10800"/>
                </a:cubicBezTo>
                <a:cubicBezTo>
                  <a:pt x="5400" y="10800"/>
                  <a:pt x="10800" y="11914"/>
                  <a:pt x="10800" y="13027"/>
                </a:cubicBezTo>
                <a:lnTo>
                  <a:pt x="10800" y="19373"/>
                </a:lnTo>
                <a:cubicBezTo>
                  <a:pt x="10800" y="2048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4798440" y="55674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诚信的核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个母亲批评自己的儿子说：“你天天说谎，长大以后能干什么？”儿子回答：“做广告。”这个故事给我们的启示是：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假行为只存在于广告领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广告都是假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会上有些广告商存在着虚假，缺乏诚信意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后不能看广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7524720" y="1773360"/>
            <a:ext cx="50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0" y="54936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不发芽的经过告诉了国王，国王高兴地拉着他的手大声地说：“这就是我忠实的儿子。”原来，国王发给孩子们的花种子全是煮过的。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33520" y="34704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请思考：</a:t>
            </a:r>
            <a:br>
              <a:rPr sz="3600"/>
            </a:b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国王看见捧着花的孩子为什么脸上没有一丝笑容？ </a:t>
            </a:r>
            <a:br>
              <a:rPr sz="3600"/>
            </a:b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国王见了没有种出花的雄日为什么很高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不诚信行为是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医生当着危重病人说“不要紧，很快就会好的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考试作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某购买并大量使用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D90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头的假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某出售假冒药品“糖脂宁胶囊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①②③        B. ②③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①③④        D. ①②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643280" y="549360"/>
            <a:ext cx="50508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5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一个诚信的人，应遵循的原则有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坚持实事求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涉及利益冲突的问题时，诚信守则要求我们站在多数人利益一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眼前利益与长远利益冲突时，诚信守则要求我们站在长远利益一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情与法的冲突中，我们应站在法律一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②③④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①②③④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①②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①③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7380360" y="476280"/>
            <a:ext cx="43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问答题：我们要以诚待人，即使是对癌症晚期病人，也应据实相告，不该欺骗他。因为凡是说谎都是不诚实、虚伪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95280" y="2565360"/>
            <a:ext cx="84978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题目说法不对，并非所有的谎言都是不诚实、虚伪的表现。因为诚信的核心是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在某些情况下，我们需要“善意的谎言”。出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安慰、鼓励、帮助他人的目的掩饰一些负面的事实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这是与人为善的行为，并非不诚实的表现。这属于诚信的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智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做一个诚信的人？（诚信的要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353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本要求：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对人守信，对事负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坚持实事求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诚信的基础是尊重客观事实。实事求是是诚实守信的出发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涉及利益冲突的问题时，诚信守则要求我们站在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多数人利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眼前利益与长远利益冲突时，诚信守则要求我们站在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长远利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情与法的冲突中，诚信守则要求我们站在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法律一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56"/>
          <p:cNvPicPr/>
          <p:nvPr/>
        </p:nvPicPr>
        <p:blipFill>
          <a:blip r:embed="rId1"/>
          <a:stretch/>
        </p:blipFill>
        <p:spPr>
          <a:xfrm>
            <a:off x="0" y="-301680"/>
            <a:ext cx="9144000" cy="71596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4572000" y="5486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57200" y="228600"/>
            <a:ext cx="807732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拓展延伸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某校八年级学生在开展“共筑诚信学校”的活动中，进行了“诚信”情况的调查。调查结果见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4920" y="2590920"/>
          <a:ext cx="8534160" cy="325116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抄袭作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考试作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言而无信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从未出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偶尔出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经常出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838080" y="1371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33520" y="609480"/>
            <a:ext cx="72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Wingdings 2"/>
                <a:ea typeface="Wingdings 2"/>
              </a:rPr>
              <a:t>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上表调查结果反映了什么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533520" y="1295280"/>
            <a:ext cx="598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Wingdings 2"/>
                <a:ea typeface="Wingdings 2"/>
              </a:rPr>
              <a:t>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设计一种诚信的标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533520" y="2057400"/>
            <a:ext cx="67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Wingdings 2"/>
                <a:ea typeface="Wingdings 2"/>
              </a:rPr>
              <a:t>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说出一种具体活动形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33520" y="2743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Wingdings 2"/>
                <a:ea typeface="Wingdings 2"/>
              </a:rPr>
              <a:t>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“共筑诚信学校”，中学生应该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826920" y="4005360"/>
            <a:ext cx="76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我们中学生要言而有信，一诺千金；要做到对人守信、对事负责；要坚持实事求是；要站在多数人利益一边、长远利益、法律的一边；要与人为善，出于公心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下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怎样做一个诚信的人？（诚信的要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187280" y="2708280"/>
            <a:ext cx="698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辨析题：我们要以诚待人，即使是对癌症晚期病人，也应据实相告，不该欺骗他。因为凡是说谎都是不诚实、虚伪的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见拓展训练一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2590920" y="2133720"/>
            <a:ext cx="46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4"/>
          <p:cNvSpPr/>
          <p:nvPr/>
        </p:nvSpPr>
        <p:spPr>
          <a:xfrm>
            <a:off x="762120" y="1905120"/>
            <a:ext cx="7162560" cy="1218960"/>
          </a:xfrm>
          <a:custGeom>
            <a:avLst/>
            <a:gdLst>
              <a:gd name="textAreaLeft" fmla="*/ 895320 w 7162560"/>
              <a:gd name="textAreaRight" fmla="*/ 6267240 w 7162560"/>
              <a:gd name="textAreaTop" fmla="*/ 228600 h 1218960"/>
              <a:gd name="textAreaBottom" fmla="*/ 11361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755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8779"/>
                </a:lnTo>
                <a:arcTo wR="21600" hR="20153" stAng="3993615" swAng="-498571"/>
                <a:lnTo>
                  <a:pt x="18900" y="10004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341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10004"/>
                </a:lnTo>
                <a:close/>
              </a:path>
              <a:path fill="none" w="21600" h="21600">
                <a:moveTo>
                  <a:pt x="5400" y="341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341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8779"/>
                </a:moveTo>
                <a:lnTo>
                  <a:pt x="2700" y="2579"/>
                </a:lnTo>
              </a:path>
              <a:path fill="none" w="21600" h="21600">
                <a:moveTo>
                  <a:pt x="18900" y="18779"/>
                </a:moveTo>
                <a:lnTo>
                  <a:pt x="18900" y="2579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做一个诚实守信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3"/>
          <a:stretch/>
        </p:blipFill>
        <p:spPr>
          <a:xfrm>
            <a:off x="2438280" y="3886200"/>
            <a:ext cx="3303720" cy="2835360"/>
          </a:xfrm>
          <a:prstGeom prst="rect">
            <a:avLst/>
          </a:prstGeom>
          <a:ln w="0">
            <a:noFill/>
          </a:ln>
        </p:spPr>
      </p:pic>
      <p:sp>
        <p:nvSpPr>
          <p:cNvPr id="201" name="WordArt 6"/>
          <p:cNvSpPr txBox="1"/>
          <p:nvPr/>
        </p:nvSpPr>
        <p:spPr>
          <a:xfrm>
            <a:off x="380880" y="152280"/>
            <a:ext cx="8458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请你用一生去完成的作业：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面认识诚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654120"/>
          <a:ext cx="9144000" cy="6327720"/>
        </p:xfrm>
        <a:graphic>
          <a:graphicData uri="http://schemas.openxmlformats.org/drawingml/2006/table">
            <a:tbl>
              <a:tblPr/>
              <a:tblGrid>
                <a:gridCol w="1692360"/>
                <a:gridCol w="7451640"/>
              </a:tblGrid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含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诚”就是内诚于已，诚实无欺、诚实做人、诚实做事、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实事求是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；“信”，就是外信于人，有信用、讲信誉、守信义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指对人对事要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诚实守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基本要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对人守信、对事负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基础及核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基础：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尊重客观事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心：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善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诚信守则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坚持实事求是；在涉及利益冲突问题时，要站在</a:t>
                      </a: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多数人利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边；当眼前利益与长远利益冲突时，应站在</a:t>
                      </a:r>
                      <a:r>
                        <a:rPr b="1" lang="zh-CN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长远利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边在情与法的冲突中，站在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法律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边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诚信的智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诚信要与具体的情境相结合：妥善处理对人诚实与尊重他人隐私关系；诚实与说谎的关系（</a:t>
                      </a: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善意的谎言并不违背诚信和道德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诚信的危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害</a:t>
                      </a:r>
                      <a:r>
                        <a:rPr b="1" lang="zh-CN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害</a:t>
                      </a:r>
                      <a:r>
                        <a:rPr b="1" lang="zh-CN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害</a:t>
                      </a:r>
                      <a:r>
                        <a:rPr b="1" lang="zh-CN" sz="2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社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horz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838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话说诚信被那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聪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年轻人投弃到水里以后，他拼命地游着，最后来到了一个小岛上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诚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躺在沙滩上休息，心里计划着等待哪位路过的朋友允许他搭船，救他一命。 突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诚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听到远处传来一阵阵欢乐轻松的音乐。他于是马上站起来，向着音乐传来的方向望去：他看见一只小船正向这边驶来。船上有面小旗，上面写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快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字，原来是快乐的小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诚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忙喊道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快乐快乐，我是诚信，你拉我回岸可以吗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快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听，笑着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诚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行不行，我一有了诚信就不快乐了，你看这社会上有多少人因为说实话而不快乐，对不起，我无能为力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罢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快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走了。过了一会儿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地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来了，诚信忙喊到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地位地位，我是诚信，我想搭你的船回家可以吗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地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忙把船划远了，回头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诚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行不行，诚信可不能搭我的船，我的地位来之不易啊！有了你这个诚信我岂不倒霉，并且连地位也难以保住啊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诚信很失望地看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地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背影，眼里充满了不解和疑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ack (22)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708360" y="765000"/>
            <a:ext cx="5616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隶书"/>
              </a:rPr>
              <a:t>       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有一名重点中学的学生在上学的路上自行车坏了，修车的老大爷帮他把车修好了</a:t>
            </a: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但他却没有带钱。他告诉老大爷明天一定还修车的 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元钱，老大爷看了看他的校服和校徽只问了问他的名字就让他走了。但几天过去了他还没有来，老大爷来到了学校，学校告诉他根本没有叫这个名字的人，老大爷望着这所学校失望的摇了摇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276720" y="189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小故事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1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076720" y="189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元钱与诚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067280" y="4292640"/>
            <a:ext cx="4897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Wingdings 2"/>
                <a:ea typeface="Wingdings 2"/>
              </a:rPr>
              <a:t>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名同学这么做会有什么影响？            给你什么启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176040"/>
            <a:ext cx="9143640" cy="3266280"/>
            <a:chOff x="0" y="176040"/>
            <a:chExt cx="9143640" cy="3266280"/>
          </a:xfrm>
        </p:grpSpPr>
        <p:sp>
          <p:nvSpPr>
            <p:cNvPr id="206" name="Rectangle 3"/>
            <p:cNvSpPr/>
            <p:nvPr/>
          </p:nvSpPr>
          <p:spPr>
            <a:xfrm>
              <a:off x="0" y="666720"/>
              <a:ext cx="9143640" cy="27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随着一片有节奏的却不和谐的声音传来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竞争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们乘着小船来了，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信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喊道：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竞争，竞争，我能不能搭你的小船一程？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竞争们问道：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你是谁，你能给我们多少好处？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信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想说，怕说了又没人理，但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信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毕竟是诚信，他说：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是诚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……”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你是诚信啊，你这不成心给我们添麻烦吗？如今竞争这么激烈，我们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‘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正当竞争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’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怎么敢要你诚信？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言罢，扬长而去。 正当诚信感到近乎绝望的时候，一个慈祥的声音从远处传来：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孩子，上船吧！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个白发苍苍的老者在船上掌着舵道：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是时间老人。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那您为什么要救我呢？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老人微笑着说：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只有时间才知道诚信有多么重要！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在回去的路上，时间老人指着因翻船而落水的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快乐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地位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竞争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意味深长地说道：</a:t>
              </a:r>
              <a:r>
                <a:rPr b="0" lang="zh-CN" sz="3600" spc="-1" strike="noStrike">
                  <a:solidFill>
                    <a:srgbClr val="cc0000"/>
                  </a:solidFill>
                  <a:latin typeface="Times New Roman"/>
                  <a:ea typeface="方正隶书简体"/>
                </a:rPr>
                <a:t>“</a:t>
              </a:r>
              <a:r>
                <a:rPr b="0" lang="zh-CN" sz="3600" spc="-1" strike="noStrike">
                  <a:solidFill>
                    <a:srgbClr val="cc0000"/>
                  </a:solidFill>
                  <a:latin typeface="方正隶书简体"/>
                  <a:ea typeface="方正隶书简体"/>
                </a:rPr>
                <a:t>没有诚信，快乐不长久，地位是虚假的，竞争也是失败的。</a:t>
              </a:r>
              <a:r>
                <a:rPr b="0" lang="zh-CN" sz="3600" spc="-1" strike="noStrike">
                  <a:solidFill>
                    <a:srgbClr val="cc0000"/>
                  </a:solidFill>
                  <a:latin typeface="Times New Roman"/>
                  <a:ea typeface="方正隶书简体"/>
                </a:rPr>
                <a:t>”</a:t>
              </a:r>
              <a:r>
                <a:rPr b="0" lang="zh-CN" sz="3600" spc="-1" strike="noStrike">
                  <a:solidFill>
                    <a:srgbClr val="cc0000"/>
                  </a:solidFill>
                  <a:latin typeface="方正隶书简体"/>
                  <a:ea typeface="方正隶书简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"/>
            <p:cNvSpPr/>
            <p:nvPr/>
          </p:nvSpPr>
          <p:spPr>
            <a:xfrm>
              <a:off x="1216080" y="17604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他又接着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gou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133720"/>
            <a:ext cx="3757680" cy="390996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/>
          <p:cNvSpPr/>
          <p:nvPr/>
        </p:nvSpPr>
        <p:spPr>
          <a:xfrm>
            <a:off x="0" y="457200"/>
            <a:ext cx="4038480" cy="1219320"/>
          </a:xfrm>
          <a:prstGeom prst="wedgeRoundRectCallout">
            <a:avLst>
              <a:gd name="adj1" fmla="val -1296"/>
              <a:gd name="adj2" fmla="val 109898"/>
              <a:gd name="adj3" fmla="val 16667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我凡事都爱说实话，为什么好象还有很多同学不太喜欢我？我真的好苦恼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657600" y="2590920"/>
            <a:ext cx="5334120" cy="199260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做到诚信，不违背道德，是需要智慧的，要根据具体情况，采取不同措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诚实与尊重他人隐私发生冲突时，我们要结合具体的情景，</a:t>
            </a: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权衡利弊，按照实际情况妥善处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023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4599000" y="20685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华文行楷"/>
                <a:ea typeface="华文行楷"/>
              </a:rPr>
              <a:t>心情小药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5943600" y="533520"/>
            <a:ext cx="2895480" cy="1218960"/>
          </a:xfrm>
          <a:prstGeom prst="cloudCallout">
            <a:avLst>
              <a:gd name="adj1" fmla="val -49671"/>
              <a:gd name="adj2" fmla="val 77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回音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ard04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72200" y="2743200"/>
            <a:ext cx="2701800" cy="37576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4038480" y="91440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生活中，我们会碰到许多复杂的事情，我不知道何事该说真话？何事可以不诚实回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457200" y="3276720"/>
            <a:ext cx="6202440" cy="18104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生活中，会有很多复杂的事情，有时生活需要“善意的谎言”，而并不违背诚信的道德，有时却要实话实说，否则就是虚伪欺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030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865080" y="2655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华文行楷"/>
              </a:rPr>
              <a:t>心情小药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228600" y="990720"/>
            <a:ext cx="2743200" cy="1143000"/>
          </a:xfrm>
          <a:prstGeom prst="cloudCallout">
            <a:avLst>
              <a:gd name="adj1" fmla="val 46356"/>
              <a:gd name="adj2" fmla="val 12152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回音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rcRect l="19477" t="0" r="13081" b="50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19280" y="736560"/>
            <a:ext cx="4967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温馨提示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99840" y="2971800"/>
            <a:ext cx="7086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华文行楷"/>
                <a:ea typeface="华文行楷"/>
              </a:rPr>
              <a:t> </a:t>
            </a:r>
            <a:r>
              <a:rPr b="1" lang="zh-CN" sz="5400" spc="-1" strike="noStrike">
                <a:solidFill>
                  <a:srgbClr val="008000"/>
                </a:solidFill>
                <a:latin typeface="Wingdings 2"/>
                <a:ea typeface="Wingdings 2"/>
              </a:rPr>
              <a:t></a:t>
            </a:r>
            <a:r>
              <a:rPr b="1" lang="zh-CN" sz="5400" spc="-1" strike="noStrike">
                <a:solidFill>
                  <a:srgbClr val="d60093"/>
                </a:solidFill>
                <a:latin typeface="华文行楷"/>
                <a:ea typeface="华文行楷"/>
              </a:rPr>
              <a:t>生命不可能从谎言中开出灿烂的鲜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华文行楷"/>
                <a:ea typeface="华文行楷"/>
              </a:rPr>
              <a:t> </a:t>
            </a:r>
            <a:r>
              <a:rPr b="1" lang="zh-CN" sz="5400" spc="-1" strike="noStrike">
                <a:solidFill>
                  <a:srgbClr val="008000"/>
                </a:solidFill>
                <a:latin typeface="Wingdings 2"/>
                <a:ea typeface="Wingdings 2"/>
              </a:rPr>
              <a:t></a:t>
            </a:r>
            <a:r>
              <a:rPr b="1" lang="zh-CN" sz="5400" spc="-1" strike="noStrike">
                <a:solidFill>
                  <a:srgbClr val="d60093"/>
                </a:solidFill>
                <a:latin typeface="华文行楷"/>
                <a:ea typeface="华文行楷"/>
              </a:rPr>
              <a:t>言必信，行必果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nw_bt"/>
          <p:cNvPicPr/>
          <p:nvPr/>
        </p:nvPicPr>
        <p:blipFill>
          <a:blip r:embed="rId2"/>
          <a:stretch/>
        </p:blipFill>
        <p:spPr>
          <a:xfrm>
            <a:off x="971640" y="6453360"/>
            <a:ext cx="7086600" cy="120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nw_tp"/>
          <p:cNvPicPr/>
          <p:nvPr/>
        </p:nvPicPr>
        <p:blipFill>
          <a:blip r:embed="rId3"/>
          <a:stretch/>
        </p:blipFill>
        <p:spPr>
          <a:xfrm>
            <a:off x="826920" y="260280"/>
            <a:ext cx="7594920" cy="63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0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1197000"/>
            <a:ext cx="1439640" cy="1406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932360" y="299736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　　 信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3348000" y="3429000"/>
            <a:ext cx="26654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564000" y="2781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前提和基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547640" y="299736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诚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684360" y="0"/>
            <a:ext cx="5486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诚实守则</a:t>
            </a:r>
            <a:endParaRPr b="1" lang="en-US" sz="66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187280" y="443700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诚实赢得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信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诚实是信任的</a:t>
            </a:r>
            <a:r>
              <a:rPr b="1" lang="zh-CN" sz="4400" spc="-1" strike="noStrike">
                <a:solidFill>
                  <a:srgbClr val="9933ff"/>
                </a:solidFill>
                <a:latin typeface="Times New Roman"/>
              </a:rPr>
              <a:t>前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4400" spc="-1" strike="noStrike">
                <a:solidFill>
                  <a:srgbClr val="9933ff"/>
                </a:solidFill>
                <a:latin typeface="Times New Roman"/>
              </a:rPr>
              <a:t>基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ic02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990720" y="762120"/>
            <a:ext cx="73911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诚信守则一</a:t>
            </a:r>
            <a:br>
              <a:rPr sz="48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br>
              <a:rPr sz="3600"/>
            </a:br>
            <a:r>
              <a:rPr b="1" lang="zh-CN" sz="4400" spc="-1" strike="noStrike">
                <a:solidFill>
                  <a:srgbClr val="808080"/>
                </a:solidFill>
                <a:latin typeface="Times New Roman"/>
              </a:rPr>
              <a:t>坚持实事求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50920" y="27468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往往会在什么时候背弃诚信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生命受到威胁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受到金钱诱惑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受到物质诱惑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受到名利诱惑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受到情感约束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蝴蝶"/>
          <p:cNvPicPr/>
          <p:nvPr/>
        </p:nvPicPr>
        <p:blipFill>
          <a:blip r:embed="rId1"/>
          <a:stretch/>
        </p:blipFill>
        <p:spPr>
          <a:xfrm>
            <a:off x="7020000" y="4724280"/>
            <a:ext cx="1422360" cy="1873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2004728195558786"/>
          <p:cNvPicPr/>
          <p:nvPr/>
        </p:nvPicPr>
        <p:blipFill>
          <a:blip r:embed="rId2"/>
          <a:stretch/>
        </p:blipFill>
        <p:spPr>
          <a:xfrm>
            <a:off x="900000" y="6165720"/>
            <a:ext cx="7452000" cy="27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人背弃诚信的共同点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258920" y="2133720"/>
            <a:ext cx="648180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生活中发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利益冲突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004728195558786"/>
          <p:cNvPicPr/>
          <p:nvPr/>
        </p:nvPicPr>
        <p:blipFill>
          <a:blip r:embed="rId1"/>
          <a:stretch/>
        </p:blipFill>
        <p:spPr>
          <a:xfrm>
            <a:off x="900000" y="6165720"/>
            <a:ext cx="7452000" cy="271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19477" t="0" r="13081" b="50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Rectangle 3"/>
          <p:cNvSpPr/>
          <p:nvPr/>
        </p:nvSpPr>
        <p:spPr>
          <a:xfrm>
            <a:off x="4932360" y="1844640"/>
            <a:ext cx="1871640" cy="3529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99960" y="2708280"/>
            <a:ext cx="1521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利益冲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203640" y="1989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眼  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076720" y="1989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长  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203640" y="3213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  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076720" y="321300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多数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3419640" y="45086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92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1979640" y="3500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1979640" y="3933720"/>
            <a:ext cx="1152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 flipV="1">
            <a:off x="1979640" y="234900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nw_tp"/>
          <p:cNvPicPr/>
          <p:nvPr/>
        </p:nvPicPr>
        <p:blipFill>
          <a:blip r:embed="rId2"/>
          <a:stretch/>
        </p:blipFill>
        <p:spPr>
          <a:xfrm>
            <a:off x="826920" y="549360"/>
            <a:ext cx="7058160" cy="53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nw_bt"/>
          <p:cNvPicPr/>
          <p:nvPr/>
        </p:nvPicPr>
        <p:blipFill>
          <a:blip r:embed="rId3"/>
          <a:stretch/>
        </p:blipFill>
        <p:spPr>
          <a:xfrm>
            <a:off x="971640" y="6237360"/>
            <a:ext cx="7086600" cy="12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0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1197000"/>
            <a:ext cx="129564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dell</cp:lastModifiedBy>
  <cp:lastPrinted>1899-12-30T00:00:00Z</cp:lastPrinted>
  <dcterms:modified xsi:type="dcterms:W3CDTF">2016-05-17T07:38:51Z</dcterms:modified>
  <cp:revision>2</cp:revision>
  <dc:subject>www.dearedu.com</dc:subject>
  <dc:title>www.dearedu.com</dc:title>
</cp:coreProperties>
</file>